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B59B-93B4-43AA-89E1-9E9503B51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C42E-87AC-4002-849A-4A02BF1B9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2B89-C4E1-42AD-B1A5-AC028CDFE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1D5B-087B-43BB-A6B5-20A9D100D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7034-DABD-4CA0-BDF2-7EE4DFEA4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1E42-B778-4C92-93AB-03E8D4362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BE42-E383-4D6C-B4F2-4ADE99550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97CF-4950-4832-8160-035125A9B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6AE3-5E0D-4C05-B8BA-0B41B459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B8A8-E43D-42E4-9F4A-1EC1208B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C124-FDB0-4E63-BE41-58F1674CC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35F8-EE5E-49FC-8FC3-0DA81CC69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3AB8-7D12-4404-9AC2-E65FCB590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B65-D5EF-4951-83DF-13AE5A1A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12D-1978-4F86-A312-82236A03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3CD-96A7-4144-B0B3-32624503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EDD-5BF9-41CD-BA18-5C3197ED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ACB-5B67-45FE-9024-A11A164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00D2-C226-4ABA-B665-755E65B3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052-61DF-40F5-B739-1047B7F4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1E0-7880-4EF6-9EC6-5F9B9D58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769-A8AA-4A8C-B919-67C1845A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D12-6A45-496A-9D80-E51322CA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42D-23CD-4A02-9355-D9D260D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692-EF9A-48D5-BF50-5BCB73B3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837B-2DC7-4998-8696-27DB2DC145C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4(Rough Outlin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eedback questions like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this a proportional reasoning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like ab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change now, if any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Example 2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Screen shot 2011-06-29 at 1.47.57 PM.png"/>
          <p:cNvPicPr/>
          <p:nvPr/>
        </p:nvPicPr>
        <p:blipFill>
          <a:blip r:embed="rId1"/>
          <a:stretch/>
        </p:blipFill>
        <p:spPr>
          <a:xfrm>
            <a:off x="781200" y="0"/>
            <a:ext cx="75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eedback questions like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use 50% and 10%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write both fractions and perc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add $2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you prove your answer makes sense using a different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r strategy have changed if the additional amount had been 70% inst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plan a generic feedback checklist, but we will focus, as you’ve seen, on using feedback  very specific to the specific task the student u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ch of the focus will be on how knowing the goal of the lesson will influence the feedback gi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Possible checklist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ould you convince someone the answer makes sen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id you choose the strategy you di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you have used the same strategy if the numbers had been slightly diffe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Generic checklist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you mean when…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part of the problem did you have a sense of right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ere the parts you had to think more about?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Generic checklist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strike, we still have not been able to go through all of our s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focus on looking at student work and talk about responding in the mo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use a student piece and talk about how to respond to it by asking for participant ideas, but adding 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make a distinction between feedback when you have time and the “in the moment” feedback discussed earli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provide another sample piece to which participants will respond in pai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will then talk it over with another p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Second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Here is a potential example that I have borrowed– will be looking for something like one of these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The context is that kids were asked to create a proportional reasoning problem.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Screen shot 2011-06-29 at 1.47.32 PM.png"/>
          <p:cNvPicPr/>
          <p:nvPr/>
        </p:nvPicPr>
        <p:blipFill>
          <a:blip r:embed="rId1"/>
          <a:stretch/>
        </p:blipFill>
        <p:spPr>
          <a:xfrm>
            <a:off x="1179360" y="0"/>
            <a:ext cx="678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eedback questions like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48 a good number to choose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pick ¼ and 1/8 to ask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it make sense that 8¢ was not halfway between 6¢ and 12¢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otice that you mentioned that 1 jawbreaker costs 1¢. Did you figure this out before or after you got your answers for ¼ and 1/8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eedback questions like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 calculations at the bottom show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multiply by 6/6, 8/8 and 12/12? How were your answers related to the fractions you started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use the strategy you d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strategies could you have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6:21:22Z</dcterms:created>
  <dc:creator>PSteele</dc:creator>
  <dc:description/>
  <dc:language>en-US</dc:language>
  <cp:lastModifiedBy>Marian Small</cp:lastModifiedBy>
  <dcterms:modified xsi:type="dcterms:W3CDTF">2011-06-29T18:14:26Z</dcterms:modified>
  <cp:revision>281</cp:revision>
  <dc:subject/>
  <dc:title>Slide 1</dc:title>
</cp:coreProperties>
</file>